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1EF-ABF7-4B4A-800A-EE67DF3E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FDD-7ACA-4062-9CD8-70A7242B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A434-647A-4F25-BFA9-413F0600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63F-50ED-465D-9CA3-25043275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81C-5EF1-4D34-B2F8-99640EE7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9755-162F-4C50-9184-70600E60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16EB-BC09-4538-8405-71076934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8738-C5F1-454B-8769-EA453118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CA81-7B13-437D-B491-13447414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4811-C632-4C5B-9194-17E6E522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BD8E-857B-45AE-8D79-785A4B72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A88-922F-4A19-B4FB-EB5E7FE9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44A7-07C8-46F2-AA3E-FDDECE4D3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Com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rica Grasbe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el desayuno me gusta com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240" y="342900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anque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2362320" cy="1592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324480" y="4724280"/>
            <a:ext cx="2667240" cy="2000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72200" y="38862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38098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4038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toc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848720" y="1752480"/>
            <a:ext cx="2057400" cy="1932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391520" y="106668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o de n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352680" y="2590920"/>
            <a:ext cx="2610000" cy="1957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76720" y="16002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huevos y pan to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la merienda me gusta com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verduras y la fr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2685960" cy="1704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029200" y="2895480"/>
            <a:ext cx="312408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el almuerzo me gusta com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00200" y="4647960"/>
            <a:ext cx="2209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hamburgu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47242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as fri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160020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naran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1676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gal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45720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ensa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1371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le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la merienda me gusta com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480" y="3276720"/>
            <a:ext cx="2743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3962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retz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 la cena me gusta com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80720" y="4038120"/>
            <a:ext cx="342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qu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019920" y="5029200"/>
            <a:ext cx="2361960" cy="1609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791320" y="2514600"/>
            <a:ext cx="2205000" cy="1763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447920" y="16765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828800" y="1295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tan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1905120"/>
            <a:ext cx="2362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1981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a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45720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4114800" y="2743200"/>
            <a:ext cx="1143000" cy="1461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038480" y="2209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 el postre me gusta com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629400" y="2133720"/>
            <a:ext cx="2362320" cy="1535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066680" y="26668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22096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981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he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4800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gal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1447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as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962520" y="1905120"/>
            <a:ext cx="1447560" cy="1114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038480" y="1295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08:55Z</dcterms:created>
  <dc:creator>grasbergereri</dc:creator>
  <dc:description/>
  <dc:language>en-US</dc:language>
  <cp:lastModifiedBy>grasbergereri</cp:lastModifiedBy>
  <dcterms:modified xsi:type="dcterms:W3CDTF">2012-04-05T17:20:58Z</dcterms:modified>
  <cp:revision>4</cp:revision>
  <dc:subject/>
  <dc:title>Slide 1</dc:title>
</cp:coreProperties>
</file>